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4A8D-7EB7-4433-91A9-6C4F88007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8902-8D3B-4B6D-A6C9-F56764E83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D890-B4FD-4253-9AB0-E43584322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B2EB-C8C1-48A8-AF1B-E8BBB3535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CD0E-E19D-4E70-A54B-B108B3E54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B025-D3A0-48FB-9D75-0B1FEB463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250B-D37A-4EFB-80AC-4E47B080B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967D-F139-47A1-8DC1-8FD4071E2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DBB8-143E-4F32-9C5F-162C2C9C8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AB68-D002-4CE0-BFC7-79324096C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D415-A16D-4A56-A2F2-62212CC7E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2F7C-56ED-445D-9690-2C8C8AB80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A76FF-42AE-4795-B0D0-0E4F1190CA6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29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3"/>
          <a:stretch/>
        </p:blipFill>
        <p:spPr>
          <a:xfrm>
            <a:off x="179280" y="1484280"/>
            <a:ext cx="87138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306360" y="3716280"/>
            <a:ext cx="85694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صبر والعفو أفضل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 فيه أجر من الله تعالى علي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10" descr=""/>
          <p:cNvPicPr/>
          <p:nvPr/>
        </p:nvPicPr>
        <p:blipFill>
          <a:blip r:embed="rId3"/>
          <a:stretch/>
        </p:blipFill>
        <p:spPr>
          <a:xfrm>
            <a:off x="2873520" y="1052640"/>
            <a:ext cx="6019560" cy="583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"/>
          <p:cNvPicPr/>
          <p:nvPr/>
        </p:nvPicPr>
        <p:blipFill>
          <a:blip r:embed="rId4"/>
          <a:stretch/>
        </p:blipFill>
        <p:spPr>
          <a:xfrm>
            <a:off x="1198440" y="2924280"/>
            <a:ext cx="7694640" cy="596880"/>
          </a:xfrm>
          <a:prstGeom prst="rect">
            <a:avLst/>
          </a:prstGeom>
          <a:ln w="0">
            <a:noFill/>
          </a:ln>
        </p:spPr>
      </p:pic>
      <p:sp>
        <p:nvSpPr>
          <p:cNvPr id="83" name="عنوان 1"/>
          <p:cNvSpPr/>
          <p:nvPr/>
        </p:nvSpPr>
        <p:spPr>
          <a:xfrm>
            <a:off x="250920" y="1700280"/>
            <a:ext cx="856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عرفة أحوالهم وما يناسبه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9360"/>
            <a:ext cx="914256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533"/>
          <a:stretch/>
        </p:blipFill>
        <p:spPr>
          <a:xfrm>
            <a:off x="324000" y="2276640"/>
            <a:ext cx="853416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395280" y="1581120"/>
            <a:ext cx="8464680" cy="3000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12600"/>
            <a:ext cx="9144000" cy="1266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843280" y="4581360"/>
            <a:ext cx="374652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108000" y="1041480"/>
            <a:ext cx="8829720" cy="56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1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8642160" cy="4464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"/>
          <p:cNvPicPr/>
          <p:nvPr/>
        </p:nvPicPr>
        <p:blipFill>
          <a:blip r:embed="rId2"/>
          <a:stretch/>
        </p:blipFill>
        <p:spPr>
          <a:xfrm>
            <a:off x="179280" y="934920"/>
            <a:ext cx="8817120" cy="1009800"/>
          </a:xfrm>
          <a:prstGeom prst="rect">
            <a:avLst/>
          </a:prstGeom>
          <a:ln w="0">
            <a:noFill/>
          </a:ln>
        </p:spPr>
      </p:pic>
      <p:sp>
        <p:nvSpPr>
          <p:cNvPr id="51" name="عنوان 1"/>
          <p:cNvSpPr/>
          <p:nvPr/>
        </p:nvSpPr>
        <p:spPr>
          <a:xfrm>
            <a:off x="395280" y="472428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القرآ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عنوان 1"/>
          <p:cNvSpPr/>
          <p:nvPr/>
        </p:nvSpPr>
        <p:spPr>
          <a:xfrm>
            <a:off x="395280" y="530064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دعاء إلى الله بآياته والدعاء إلى حججه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395280" y="591516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يجهدون أنفسهم في عداوتك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3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sp>
        <p:nvSpPr>
          <p:cNvPr id="55" name="مستطيل 1"/>
          <p:cNvSpPr/>
          <p:nvPr/>
        </p:nvSpPr>
        <p:spPr>
          <a:xfrm>
            <a:off x="1979640" y="1557360"/>
            <a:ext cx="360360" cy="287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دعوة إلى الله تعالى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 كفائي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98440" y="2060640"/>
            <a:ext cx="8666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عنى واجب كفائي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إذا قام به من يكفي سقط الإثم عن الباقي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7040" y="2565360"/>
            <a:ext cx="8666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جب أن تكون الدعوة إلى الله 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على بصيرة وعل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66760" y="3068640"/>
            <a:ext cx="86662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نبغي للداعي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عرفة أحوال المدعوين وما يناسبه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179280" y="3624120"/>
            <a:ext cx="86662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معاقبة بالمثل دون تجاوز للضوابط الشرعي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جائز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50920" y="4035600"/>
            <a:ext cx="8665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فضل من المعاقبة بالمثل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صبر والاحتساب والعفو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50920" y="4549680"/>
            <a:ext cx="86659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عية الله تعالى ثابتة لأهل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تقوى والإحسا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50920" y="5054760"/>
            <a:ext cx="8665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صفة معية الله تعالى لأهل التقوى والإحسا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عية نصر وتأييد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68" name="مربع نص 1"/>
          <p:cNvSpPr/>
          <p:nvPr/>
        </p:nvSpPr>
        <p:spPr>
          <a:xfrm>
            <a:off x="250920" y="1700280"/>
            <a:ext cx="862956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1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الحكم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2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الموعظة الحسن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3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المجادلة بالتي هي أحس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3"/>
          <a:stretch/>
        </p:blipFill>
        <p:spPr>
          <a:xfrm>
            <a:off x="3597120" y="907920"/>
            <a:ext cx="528336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5" descr=""/>
          <p:cNvPicPr/>
          <p:nvPr/>
        </p:nvPicPr>
        <p:blipFill>
          <a:blip r:embed="rId3"/>
          <a:stretch/>
        </p:blipFill>
        <p:spPr>
          <a:xfrm>
            <a:off x="455760" y="981000"/>
            <a:ext cx="8445240" cy="1152720"/>
          </a:xfrm>
          <a:prstGeom prst="rect">
            <a:avLst/>
          </a:prstGeom>
          <a:ln w="0">
            <a:noFill/>
          </a:ln>
        </p:spPr>
      </p:pic>
      <p:sp>
        <p:nvSpPr>
          <p:cNvPr id="73" name="مربع نص 1"/>
          <p:cNvSpPr/>
          <p:nvPr/>
        </p:nvSpPr>
        <p:spPr>
          <a:xfrm>
            <a:off x="250920" y="2205000"/>
            <a:ext cx="86295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صبر الرسول صلى الله عليه وسلم على دعوة كفار قريش إلى الإسلام (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10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) سنوات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8-07T22:31:57Z</dcterms:modified>
  <cp:revision>1955</cp:revision>
  <dc:subject/>
  <dc:title>عرض تقديمي في PowerPoint</dc:title>
</cp:coreProperties>
</file>